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CE0-8BCB-48BA-9BDA-9786C0E9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89D-9F5F-4886-9490-B18422BE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CF6-7B85-4BF0-8815-8F24925D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9EF-2D94-42CF-AA40-46BB972E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D0F-227E-420F-873B-7D8AA214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130-95D3-44F3-9B91-B87AB229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509-11BA-40E3-84B7-5C7DD80C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3DF-2E9E-4CA3-9E37-D646E5E7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823-9408-4524-BC4E-050CCB0C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5C9-6EA2-4525-BC5D-C3281151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E76-46F8-45F6-BCCD-C5781C3B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65F-2CC6-459D-9879-84D190B8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9C73-DDB7-4918-8D6C-5D2A9CA42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Impact"/>
              </a:rPr>
              <a:t>Question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209320"/>
            <a:ext cx="76964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Impact"/>
              </a:rPr>
              <a:t>The anthropologist was accused of committing a _____ when she disturbed an ancient burial 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Impac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Impact"/>
              </a:rPr>
              <a:t>Tali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Impac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Impact"/>
              </a:rPr>
              <a:t>Sacrile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Impac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Impact"/>
              </a:rPr>
              <a:t>prop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4419720"/>
            <a:ext cx="99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Forte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Forte"/>
              </a:rPr>
              <a:t>The new play’s _______ dialogue made it seem more like a soap opera than a serious d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cc"/>
              </a:buClr>
              <a:buFont typeface="Fort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Forte"/>
              </a:rPr>
              <a:t>B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cc"/>
              </a:buClr>
              <a:buFont typeface="Fort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Forte"/>
              </a:rPr>
              <a:t>Acquisit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cc"/>
              </a:buClr>
              <a:buFont typeface="Fort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Forte"/>
              </a:rPr>
              <a:t>Taci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3124080"/>
            <a:ext cx="99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ooper Black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Cooper Black"/>
              </a:rPr>
              <a:t>The prospector was unable to _______ his claim to the land where the gold wa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Cooper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Cooper Black"/>
              </a:rPr>
              <a:t>Substant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Cooper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Cooper Black"/>
              </a:rPr>
              <a:t>Em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Cooper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Cooper Black"/>
              </a:rPr>
              <a:t>Esch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3276720"/>
            <a:ext cx="99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 Sans Ultra Bold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"/>
              </a:rPr>
              <a:t>The crowd did not _______ any signs of panic buy moved in an orderly fashion to the nearest ex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ill Sans Ultra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"/>
              </a:rPr>
              <a:t>Exh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ill Sans Ultra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"/>
              </a:rPr>
              <a:t>Dissemb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ill Sans Ultra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"/>
              </a:rPr>
              <a:t>E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4191120"/>
            <a:ext cx="99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Showcard Gothic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Showcard Gothic"/>
              </a:rPr>
              <a:t>Most writers are also _____ readers who have loved books since child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Showcard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Showcard Gothic"/>
              </a:rPr>
              <a:t>De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Showcard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Showcard Gothic"/>
              </a:rPr>
              <a:t>Avi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Showcard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Showcard Gothic"/>
              </a:rPr>
              <a:t>Histr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3733920"/>
            <a:ext cx="99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Unit 1 (synonym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Cong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Invid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Larg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Be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Te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Tempo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828800"/>
            <a:ext cx="37335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unifi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Justi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arp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Coag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H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t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1981080"/>
            <a:ext cx="213372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2514600"/>
            <a:ext cx="1981080" cy="3276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666880" y="2209680"/>
            <a:ext cx="198144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286000" y="3581280"/>
            <a:ext cx="2362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62320" y="2971800"/>
            <a:ext cx="2286000" cy="1295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876920"/>
            <a:ext cx="1676520" cy="228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Unit 2 (antonym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Haly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Incend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Cele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Animad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Propr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O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1828800"/>
            <a:ext cx="41148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luggish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nappropria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Compl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urbu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thing; peace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981080"/>
            <a:ext cx="2133720" cy="236232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2514600"/>
            <a:ext cx="1981080" cy="3276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33720" y="2209680"/>
            <a:ext cx="25146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352680" y="3581280"/>
            <a:ext cx="129564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3123720"/>
            <a:ext cx="2286000" cy="12956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876920"/>
            <a:ext cx="2590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Unit 3 (synonym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Mur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Piqu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Ver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Utop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De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Distra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828800"/>
            <a:ext cx="37335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enou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Un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r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Zest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Id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514600"/>
            <a:ext cx="2286000" cy="18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3124080"/>
            <a:ext cx="2133720" cy="26672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33720" y="2209320"/>
            <a:ext cx="2514600" cy="2133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657600"/>
            <a:ext cx="2286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2057400"/>
            <a:ext cx="2362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895480" y="3580920"/>
            <a:ext cx="1752840" cy="129564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7:15:17Z</dcterms:created>
  <dc:creator>User</dc:creator>
  <dc:description/>
  <dc:language>en-US</dc:language>
  <cp:lastModifiedBy>User</cp:lastModifiedBy>
  <dcterms:modified xsi:type="dcterms:W3CDTF">2006-10-10T17:20:27Z</dcterms:modified>
  <cp:revision>4</cp:revision>
  <dc:subject/>
  <dc:title>Question 1</dc:title>
</cp:coreProperties>
</file>